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53A0-E06D-4A5A-BEE0-805B84C8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D838-46AC-4E56-96CF-828855BF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7CCE-DAF6-4CFC-82F2-41CB8EF2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1B2-7955-4B4E-A391-55923DD8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3C2E-D893-4874-AE0B-25A33AF5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6AA-BAA5-4DA4-8AAC-3DEE70BF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13F4-CE3C-438C-A4BF-00401F7E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B081-BBA3-4712-920C-139238E6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7E1-B382-422A-AA3B-0F3B468A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6C1-D786-4D88-A94D-2BB0740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620-A451-471F-9F82-48609AF0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7BF9-0A55-4EA0-A1BE-CDB11CFE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S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C535-63CE-4EDC-BFA5-58D27BE87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10280" y="5284800"/>
            <a:ext cx="2133720" cy="157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MOD Administriv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Cai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MOD Coori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ear many ha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mon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 list ad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desk (ie, answering support reques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“should” b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coordin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develo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 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ings work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ftware is stand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OD core apps interact directl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this be good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eal formal vett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ly, require interoperability with Ch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chem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 on gmod-schema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, no v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focus--genome feature vis &amp; 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tive genomics/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web brow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GMOD 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50 orgs (using core ap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ad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G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cium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D-Prince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develop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nstallation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 clustering tools (including anything that needs to go into Chad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 and phylogeny schema mod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How to attract user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-in from funding ag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ling list 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GMOD side, having good documentation 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acting Evolutionary Biolog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a GMOD meeting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ing at what mee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chema modules and apps do we ne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22:26:49Z</dcterms:created>
  <dc:creator>Scott Cain</dc:creator>
  <dc:description/>
  <dc:language>en-US</dc:language>
  <cp:lastModifiedBy>Scott Cain</cp:lastModifiedBy>
  <cp:lastPrinted>1904-01-01T00:00:00Z</cp:lastPrinted>
  <dcterms:modified xsi:type="dcterms:W3CDTF">2006-01-20T13:29:33Z</dcterms:modified>
  <cp:revision>18</cp:revision>
  <dc:subject/>
  <dc:title>GMOD Administrivia</dc:title>
</cp:coreProperties>
</file>